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E83D-F2E8-49F8-B9AF-EB6B2D4DDCFD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5CA8-908E-4762-BA83-3DBA1F5A5C28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5F7C-D458-4782-B4EA-FCB41FB72BD2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391320" y="299880"/>
            <a:ext cx="436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Module Template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Subtitle; Version 1.0, Reviewed 9/15/11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dcc.ac.uk/events/research-data-management-forum/rdmf4-dealing-sensitive-data" TargetMode="Externa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Responsible Data Use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Data restrictions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3920" y="4952880"/>
            <a:ext cx="965196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obert R. Downs, PhD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Socioeconomic Data and Applications Center (SEDAC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enter for International Earth Science Information Network (CIESIN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olumbia Universit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Version 1.0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view Date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4" name="Picture 8" descr=""/>
          <p:cNvPicPr/>
          <p:nvPr/>
        </p:nvPicPr>
        <p:blipFill>
          <a:blip r:embed="rId3"/>
          <a:stretch/>
        </p:blipFill>
        <p:spPr>
          <a:xfrm>
            <a:off x="4154400" y="7658280"/>
            <a:ext cx="2500560" cy="175248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6" descr=""/>
          <p:cNvPicPr/>
          <p:nvPr/>
        </p:nvPicPr>
        <p:blipFill>
          <a:blip r:embed="rId4"/>
          <a:stretch/>
        </p:blipFill>
        <p:spPr>
          <a:xfrm>
            <a:off x="6692760" y="7924680"/>
            <a:ext cx="1125720" cy="12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ome data contain restrictions on who may access them and how they may be used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estrictions may be placed on data for various reasons and may be permanent or temporary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estrictions that apply to a data product or service must be recognized, managed, and complied with so that the restrictions are not violated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 managers must ensure that restricted data are adequately protected so that they are not disseminated to unauthorized persons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 users must ensure that their use does not violate any restrictions that have been placed on the data they are using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levance to Data Management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estrictions may be placed on data to protect individuals or interest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Intellectual property rights or licensing restrictions may apply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Laws, regulations, or policies may restrict access to some data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ecurity – Information about locations or property may be restricted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nfidentiality – Information about individuals may be restricted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Environmental Protection – Information about locations or inhabitants may be restricted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Violating restrictions that have been placed on data is unethical and could result in civil or criminal penalties, such as fines, loss of privileges, or incarceration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What kinds of restrictions are placed on data?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634680" y="2895480"/>
            <a:ext cx="11861640" cy="5639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ccess and use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strictions may limit who may have access to the data or how they are used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Access may be authorized only for specific purposes, such as educational use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strictions may limit whether data may be used to create new products or services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Modifications or derivations of the data may be prohibited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issemination and copi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strictions may limit who is authorized to distribute the data, how the data may be distributed, and whether copies of the data may be created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istribution may be limited to a specific location or service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istribution may be limited to a specific time period, which may be in the future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strictions on dissemination may apply to the data and to all derivations or products created from the data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hods for restricting 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dentify data that must be restricted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Label data as restricted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tore data in secure facilitie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ransport data using secure mean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clude with the data, a description of the conditions under which the data are restricted along with acceptable use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Establish infrastructure and procedures for storing, managing, disseminating, accessing, copying, transmitting, and using restricted data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rain staff on how to protect data from unauthorized use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hods of providing access to restricted 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Limit access to authorized individuals or role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Enable access within a facility only accessible by authorized persons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Limit access to authorized individuals with password-protection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Establish a data enclave without capabilities to copy or transmit data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Provide options for accessing restricted data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quire evidence of approval or expertise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quire users to sign a confidentiality, non-disclosure, or data use agreement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quire approval of data protection plan from potential users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quest an exception or waiver of restrictions under certain conditions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quest clearance for specific individuals to access restricted data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quest declassification of restricted data from relevant authority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Modify the data to protect restricted portion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hange aspects of data that are restricted (recode, generalize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move or obscure the portions of data that are restricted (redact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roviding access to restricted 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482400" y="2324160"/>
            <a:ext cx="1211580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Review or establish organizational policies on restricted data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Identify conditions under which restricted data may be disseminated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Select a dissemination method that does not violate restrictions.  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reate a data dissemination plan that complies with restrictions. 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Request approval from authorities for data dissemination plan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Disseminate data in accordance with data dissemination plan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Monitor data dissemination to ensure compliance with all restrictions on data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ease dissemination if restrictions on data are violated and immediately report any violations to authorities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58720" y="1980720"/>
            <a:ext cx="11862000" cy="723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here to go for more informa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6060"/>
                </a:solidFill>
                <a:latin typeface="Helvetica Neue"/>
              </a:rPr>
              <a:t>Best Practices for Sharing Sensitive Environmental Geospatial Dat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http://www.geoconnections.org/publications/Key_documents/Sensitive_Env_Geo_Data_Guide_EN_v1.pdf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6060"/>
                </a:solidFill>
                <a:latin typeface="Helvetica Neue"/>
              </a:rPr>
              <a:t>Computer Security Act of 1987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http://csrc.nist.gov/groups/SMA/ispab/documents/csa_87.txt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6060"/>
                </a:solidFill>
                <a:latin typeface="Helvetica Neue"/>
              </a:rPr>
              <a:t>Confidentiality Issues in Geospatial Data Application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http://sedac.ciesin.columbia.edu/confidentiality/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6060"/>
                </a:solidFill>
                <a:latin typeface="Helvetica Neue"/>
              </a:rPr>
              <a:t>Dealing With Sensitive Dat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www.dcc.ac.uk/events/research-data-management-forum/rdmf4-dealing-sensitive-dat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6060"/>
                </a:solidFill>
                <a:latin typeface="Helvetica Neue"/>
              </a:rPr>
              <a:t>ICPSR – Restricted Dat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6060"/>
                </a:solidFill>
                <a:latin typeface="Helvetica Neue"/>
              </a:rPr>
              <a:t>http://www.icpsr.umich.edu/icpsrweb/ICPSR/access/restricted/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6060"/>
                </a:solidFill>
                <a:latin typeface="Helvetica Neue"/>
              </a:rPr>
              <a:t>Guidelines for Providing Appropriate Access to Geospatial Data in Response to Security Concern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http://www.fgdc.gov/policyandplanning/Access%20Guidelines.pdf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ata Management Plans: Data access, sharing, and re-use polici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Providing access to your data: Handling Sensitive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Providing access to your data: Righ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Submission agreements: Constrain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/>
  <dc:description/>
  <cp:keywords/>
  <dc:language>en-US</dc:language>
  <cp:lastModifiedBy>Robert R Downs</cp:lastModifiedBy>
  <dcterms:modified xsi:type="dcterms:W3CDTF">2011-12-22T19:17:26Z</dcterms:modified>
  <cp:revision>76</cp:revision>
  <dc:subject/>
  <dc:title>ESIP Federation 101</dc:title>
</cp:coreProperties>
</file>